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E288-F934-4AD6-A471-7BA80DC0A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nstrate my camera at this 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 picture. Remove card and add it to my card reader to transfer pic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Picasa to hold pic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Picasa and it’s editing fun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3E66-C0D5-4B53-9A3F-6170786BC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F8B4-FCCB-4D2B-9CCC-FCD8BF04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362-ECBE-47A0-AE51-32B7A00F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BE08-9108-4E6E-A111-34AEA45B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AF4-DCC6-47DF-A385-9B7EDF0F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112C-B831-4FD2-B4D1-7B8AD54E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7ED2-0B32-44F8-A1C6-C1F068E6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2946-2421-474E-B5BD-15C193E7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49D4-373C-46BB-A122-3E8D65D2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1F3F-C80E-43B4-AC26-0A05736E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97CE-4A0C-4B8F-8F7D-1D836D84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F56D-048B-4041-97C4-D325A5EC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360-6D0E-4882-872B-4DF1C1AC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9C66-C91C-45F8-B1E4-E5BFE508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005D-1472-4D06-90C5-B1395DB0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EB2A-4ED6-472D-9899-B27A032F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2449-59C9-4BDA-A513-EEC7824C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0788-6F33-4035-8229-CD81F0F0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2994C-0F84-448D-BA87-4319254F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48CAE-01CE-4F8F-BFD5-57D84C1E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A784F-4A7C-49A4-A73F-7196C203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D9A06E-9159-4875-A2E6-F259DEEE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18917-D0F9-46DA-825E-41E794A8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1424-251E-4194-BB98-E5108599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C3F3A-FB15-4C48-ACF4-5D0B885D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F6052-BB2A-449E-B4A0-53CCB6CA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A8C91-3F6A-4836-A684-F39A66E0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C9236-C488-48DF-9176-8356A0F2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3673B-D1BF-45BA-B254-E6194C4B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BDAB08-D826-44F9-BFE0-2C309755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7371A-EE82-4DDE-BD83-73B8200C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63B64-A209-4304-97B1-27A05F85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CC449-B2DF-4486-976A-536001E7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9A2DA-7AB8-4967-949B-6E0091F8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4D35-3B97-4DB0-9330-02C842EF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DE9AC-2773-4CEA-B32A-D0050866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8A353-A87C-4B50-8B01-C0D9E1EB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3422C-1A85-4DE1-BD34-03E2A405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D763E-7E35-4B85-9F96-D36CC56E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64AEB-AD1C-4FE7-85A7-6A9BA7EE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542F6-CCBA-4C6F-B89C-DFC337D1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6D87A-73AD-4176-A431-86001CA2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FC1A4-D7B0-4443-BCBB-613BD22E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A9174-CFA1-4A6F-BCC4-9F482A39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020A-3E52-4A24-8DB8-FB9E1EDE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C51-2975-4031-A661-BABD63A6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C8C-4F9B-4821-A7FB-B1585385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E80-091E-428F-8C41-85A6C84D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D02-2D5D-4B54-A4AC-98CDD255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CD4E-F95F-4B4E-BC66-151469589A8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2033-B079-4B18-81EA-74668978BDF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A724-7449-45CD-B073-A168BB1EBB9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B2BC-0C61-4960-B11A-CED2F6CFB971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mpfight.com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ighugelabs.com/flickr/cube.php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ighugelabs.com/flickr/motivator.php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icasa.google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hp?hl=en&amp;tab=wi" TargetMode="External"/><Relationship Id="rId2" Type="http://schemas.openxmlformats.org/officeDocument/2006/relationships/hyperlink" Target="http://www.barrysclipart.com/" TargetMode="External"/><Relationship Id="rId3" Type="http://schemas.openxmlformats.org/officeDocument/2006/relationships/hyperlink" Target="http://office.microsoft.com/en-us/clipart/default.aspx" TargetMode="External"/><Relationship Id="rId4" Type="http://schemas.openxmlformats.org/officeDocument/2006/relationships/hyperlink" Target="http://www.flickr.com/" TargetMode="External"/><Relationship Id="rId5" Type="http://schemas.openxmlformats.org/officeDocument/2006/relationships/hyperlink" Target="http://bighugelabs.com/flickr/" TargetMode="External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juliazanglcolby.wikispaces.com/FLIP+Recorders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imp.org/" TargetMode="External"/><Relationship Id="rId2" Type="http://schemas.openxmlformats.org/officeDocument/2006/relationships/hyperlink" Target="http://picasa.google.com/download/" TargetMode="External"/><Relationship Id="rId3" Type="http://schemas.openxmlformats.org/officeDocument/2006/relationships/hyperlink" Target="http://www.shutterfly.com/" TargetMode="External"/><Relationship Id="rId4" Type="http://schemas.openxmlformats.org/officeDocument/2006/relationships/hyperlink" Target="http://www.flickr.com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igital Imagery: Cameras and the Web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Cindy DiDonat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C:\Program Files\Microsoft Office\Media\CntCD1\ClipArt2\j0232402.wmf"/>
          <p:cNvPicPr/>
          <p:nvPr/>
        </p:nvPicPr>
        <p:blipFill>
          <a:blip r:embed="rId1"/>
          <a:stretch/>
        </p:blipFill>
        <p:spPr>
          <a:xfrm>
            <a:off x="6172200" y="4419720"/>
            <a:ext cx="17762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lick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’s owned by Yaho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can join if you have or get a Yahoo email accoun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’s free if your only upload 100mb per month/5mg per phot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d create 3 se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 account is  $24.95 a year with unlimited storage and unlimited se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mpfight : Copyright Free Imag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arch at 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Compfight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Flickr search to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ype in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lowe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 the search box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on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reative Common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Only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oose a picture and click on i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roll down to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dditional Informatio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d click on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ome Rights Reserve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ad how use the pictur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reate a Flickr Account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gn In with you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Yahoo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mail add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pload Pictur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ag them and describe the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vite others to view the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dit them with Picni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D’s Flickr Toys: </a:t>
            </a:r>
            <a:r>
              <a:rPr b="0" lang="en-US" sz="4000" spc="-1" strike="noStrike" u="sng">
                <a:solidFill>
                  <a:srgbClr val="67afbd"/>
                </a:solidFill>
                <a:uFillTx/>
                <a:latin typeface="Trebuchet MS"/>
                <a:hlinkClick r:id="rId1"/>
              </a:rPr>
              <a:t>Picture Cub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2901960" y="2249640"/>
            <a:ext cx="33400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D Flickr Toys: </a:t>
            </a:r>
            <a:r>
              <a:rPr b="0" lang="en-US" sz="4000" spc="-1" strike="noStrike" u="sng">
                <a:solidFill>
                  <a:srgbClr val="67afbd"/>
                </a:solidFill>
                <a:uFillTx/>
                <a:latin typeface="Trebuchet MS"/>
                <a:hlinkClick r:id="rId1"/>
              </a:rPr>
              <a:t>Motivator Too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1868400" y="2249640"/>
            <a:ext cx="54072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igital Storytell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gital Storytelling Finds its Place in the Classro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ory Cor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lling Their Stor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tive Narrations (Bost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reate Digital Stories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oicethrea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50 Web 2.0 Ways to Tell a Sto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hotostory 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ovi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indows Moviemak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reate Your Own Imag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6172200" y="3276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"/>
          <p:cNvPicPr/>
          <p:nvPr/>
        </p:nvPicPr>
        <p:blipFill>
          <a:blip r:embed="rId2"/>
          <a:stretch/>
        </p:blipFill>
        <p:spPr>
          <a:xfrm>
            <a:off x="3505320" y="4876920"/>
            <a:ext cx="1325520" cy="13255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5"/>
          <p:cNvSpPr/>
          <p:nvPr/>
        </p:nvSpPr>
        <p:spPr>
          <a:xfrm>
            <a:off x="685800" y="2590920"/>
            <a:ext cx="5334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digital 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memory card of at least 1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cable or card reader to transfer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2" descr=""/>
          <p:cNvPicPr/>
          <p:nvPr/>
        </p:nvPicPr>
        <p:blipFill>
          <a:blip r:embed="rId3"/>
          <a:stretch/>
        </p:blipFill>
        <p:spPr>
          <a:xfrm>
            <a:off x="3962520" y="1981080"/>
            <a:ext cx="20746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5 in 1 Card Reade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4419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USB Card Reade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2209680" y="2249640"/>
            <a:ext cx="495324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amera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re is a wide variety of cameras on the marke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st digital cameras can make movie clip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own a Panasonic DMC-FX7 that serves my needs wel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y iPhone can take pictur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Picture 2" descr="C:\Program Files\Microsoft Office\Media\CntCD1\ClipArt3\j0237168.wmf"/>
          <p:cNvPicPr/>
          <p:nvPr/>
        </p:nvPicPr>
        <p:blipFill>
          <a:blip r:embed="rId1"/>
          <a:stretch/>
        </p:blipFill>
        <p:spPr>
          <a:xfrm>
            <a:off x="3352680" y="380880"/>
            <a:ext cx="19051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diting Software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use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Picasa3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software to edit my pictur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o to Google Imag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arch for a picture of a flow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ave it to a folder like My Pictur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pen Picas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on Import then Select Device and then Fold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the picture and save it to Picas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Picasa to edit the softwar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3589560" cy="6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igital Images and the Web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 web has an unlimited supply of imag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e aware of web images and copyright issu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Google Images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Advanced Image Search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&amp;W, faces , news items, type of fil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Barry’s  Clipar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MS Office Clipar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4"/>
              </a:rPr>
              <a:t>Flickr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and  </a:t>
            </a: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5"/>
              </a:rPr>
              <a:t>Flickr Toy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2" descr="C:\Program Files\Microsoft Office\Media\CntCD1\ClipArt1\j0199108.wmf"/>
          <p:cNvPicPr/>
          <p:nvPr/>
        </p:nvPicPr>
        <p:blipFill>
          <a:blip r:embed="rId6"/>
          <a:stretch/>
        </p:blipFill>
        <p:spPr>
          <a:xfrm>
            <a:off x="6705720" y="609480"/>
            <a:ext cx="1773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lip Video Camera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1337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lip Video takes movies up to 2 hours in lengt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expensive to buy and easy to u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40 Ways to Use Flip Video in the Classro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gitalWish.com is allowing teachers to order the FLIP ultra on a buy one get one free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dit Movies in Flip Share Software (comes with camera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diting Your Pictur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can use Paint which is  built in the Window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perating system and open source’s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 Gim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can use Picnik which is included at Flickr’s sit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can use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Picasa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can use Adobe Photoshop or Adobe Photoshop Elements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you upload pictures to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Shutterfl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4"/>
              </a:rPr>
              <a:t>Flickr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icture sites, you can edit ther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17:25:12Z</dcterms:created>
  <dc:creator>Cindy DiDonato</dc:creator>
  <dc:description/>
  <dc:language>en-US</dc:language>
  <cp:lastModifiedBy>Cindy DiDonato</cp:lastModifiedBy>
  <dcterms:modified xsi:type="dcterms:W3CDTF">2010-03-21T15:58:32Z</dcterms:modified>
  <cp:revision>29</cp:revision>
  <dc:subject/>
  <dc:title>Digital Imagery</dc:title>
</cp:coreProperties>
</file>